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FE5-1A62-44F4-AC6F-5FA347F0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9B9-78F3-4FAB-9887-07FC5526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CD9-0143-455D-BD71-3098FD3B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2B7-2B79-4585-982B-4DBF1CF4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9A8-2FC9-4057-80CB-363DB568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7D1-5DAF-4948-AFCA-4E445D18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4FE-AD66-4B0F-B078-169F6E40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90E-FAC6-4FF3-ACF9-A91DE982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9BE-12E6-45C2-8A1F-25A3BD88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6DF-051A-4A5B-9997-85AA6056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E02-D675-44A2-9ADE-E4F1F075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557-981C-4269-8AD3-138552A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F930-0801-4951-A546-6B04370AF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iverzitet u Nišu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đ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insko -arhitektonski fakult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ktorske studij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narstvo i arhitektur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(najbolja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eneracija, 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esta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1916280"/>
            <a:ext cx="7488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AVREMENI KONTEKST GRADITELJSTVA I ŽIVOTNE SRED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ENVIRONMENTAL ENGINEER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8:03:07Z</dcterms:created>
  <dc:creator>Dragoslav</dc:creator>
  <dc:description/>
  <dc:language>en-US</dc:language>
  <cp:lastModifiedBy>Dragoslav</cp:lastModifiedBy>
  <dcterms:modified xsi:type="dcterms:W3CDTF">2008-05-30T09:09:19Z</dcterms:modified>
  <cp:revision>2</cp:revision>
  <dc:subject/>
  <dc:title>Univerzitet u Nišu, Građevinsko -arhitektonski fakultet Doktorske studije Građevinarstvo i arhitektura I generacija, I semestar 2008</dc:title>
</cp:coreProperties>
</file>